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929-C8FD-4F4A-92BC-6225D8DA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4C1-4E4C-4300-BA1B-C856575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414-2ADE-4A79-84A7-74DC8CC4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807-78F9-4D84-9C2F-2F38111B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300-5EAA-4C9A-B4CB-FB495DB9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0805-4A68-4709-87C8-F82110D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BD5-A90C-45F8-A624-B6B9C364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B9F0-3824-4824-90FE-75929AC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970D-6B99-471C-9CE4-2DF8C1C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C3C-183F-4C87-8B4A-F85FD0C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85A-E59A-4965-8934-E5FBB76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873-E864-47BD-9BF4-1884C0A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FD0E-B8B2-4B44-8928-8A9F741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2B6E-69B2-464F-B267-E1201D4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6BC5-71C9-4E00-9B49-B62844A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E3CC-9930-40CB-B73F-87DD507A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5CB-E2F5-4981-9054-80DA2461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F6DBD-4046-4F90-92D9-C9AA8CEA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95DEA-0ADD-4DAE-8312-482005E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96CD2-4361-4ABC-A6FC-ABE7F7A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8DE9B-0EFC-4C5E-A178-C8E91CAF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75549-0587-468D-902D-0A636F2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355-5CFB-45CE-9670-E1678E5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CA374-8159-4ADF-8F3D-4503CCE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4DF88-2BF0-4FDB-9B78-2A63125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287C0-FF33-46D5-9F92-2023CD7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83ED-FDFA-4063-9666-A1E1617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E9892-D605-4486-952F-D3FC8AC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C1854-F4DE-4FBB-9C15-56CBC02D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E8414-E76C-4257-8D92-25B77820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DFC6-58F8-484E-8E9F-97E669DF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955D-1EF6-49C8-9003-93D9251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ED89-4A2F-436B-9EF3-BEE502A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FF8-9790-46D4-BF61-0E4C48D6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1224-E4B3-49ED-B2A7-6564F501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DCD8-169A-41F2-A743-D35DE912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004C-CCEE-4E46-B168-34A06DF9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888D-BD3B-4D45-9449-8D7494F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7EC6-844B-474F-938A-2BD4CD1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8689-1D2E-44BB-926A-03798C03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6562-4916-411E-9446-B1C1A037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03EE-183E-4286-AD15-DC22840C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9E5F-45CD-414E-92E2-3AD5967D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1682F-0238-4651-B1F4-48ADDAA7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82F-AAE2-4FFF-803E-D6036483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B82AA-6F8B-4DA6-955A-1EEB2C4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92B03-0F4F-4952-9741-DC135EA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420C2-A27B-4987-8410-6539850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079D9-D740-4BD0-9C84-6BFE852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374C6-3F22-4A30-9276-75E87DBB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697D3-2651-44A5-A0E4-5C8AA38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8DFE5-948A-4C41-B9C5-75A93B9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20B02-5CEE-42BC-AB6D-142A722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D45C8-8F42-492C-9ADB-7C7FDB3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08B9E-40E3-4B86-9DAF-2AF772AA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76F-D731-4AF1-AD46-14572A42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275FB-CDC3-4C09-BDF2-B33C3A59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04AFE-1DCB-4802-81F8-7667DEED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B6EFC-9CF3-4398-B50A-D16ECB1C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711E6-3DF8-411A-AC47-5E4E4B8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66659-59D0-48AF-A6B8-58C4921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D8933-7C2D-49B1-A506-0B7D855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01AA9-5617-4045-8D15-EB395E9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330F2-8DC6-47D5-8E52-7DE624B9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C3108-13E0-4706-AA46-7A0D122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B84F9-698E-454B-B820-14898A2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366-3DDD-4865-BFEC-96BFC70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C5ADE-39BC-450D-BECF-293095C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8501A-1DD9-4085-8676-146BFE3A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D4B0A-5AAF-4DF3-B4C4-4CB74402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6DAE2-BC15-475A-A5B1-D7E63308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86FE6-7A2D-4BD4-BB24-D16F4C4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84054-1D89-4155-9235-59F3ADE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5903B-8D05-4FFD-B1BE-11FE8B10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1B625-93B6-4234-8CEA-C905B70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28283-8913-48D7-A4FD-CE512D9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E174A-8FF7-4584-817A-11B163F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BDB-CEFD-4367-84D3-51D09DB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32CF4-C2B4-402C-A4B8-4A726DA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A5E80-4572-495D-8BB7-FDE571E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A0597-C469-40D7-994D-B2DF5DEC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F15FD-10DB-4E0C-B4DF-BE42A0A9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1B6B9-8682-4C40-8BAF-4C79B457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56D-1D55-43C5-A25A-6EB0C1D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3B5-1DBA-42FA-9F10-326C5BBC0D28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5199-83CE-4BF3-9612-C2F31D0F21D3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46A-2148-4A10-B14F-200684BB60B5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C1FA-6A4E-49A2-B942-2CDAFC795DB4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FBF2-7E8F-4615-9A2F-1FAA760531AE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EEBA-8205-44C4-A6C0-DBDEC1DBB959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V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B82-96E1-4B63-9226-D6AE5D5BD0D1}" type="slidenum">
              <a:rPr b="1" lang="es-V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71760" y="149976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CÓMO HACER DE LA CONSOLIDACIÓN LA BASE PARA UN CRECIMIENTO SIN PRECEDENTE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i="1" lang="es-VE" sz="1800" spc="-1" strike="noStrike">
                <a:solidFill>
                  <a:srgbClr val="575f6d"/>
                </a:solidFill>
                <a:latin typeface="Century Schoolbook"/>
              </a:rPr>
              <a:t>Así que las iglesias eran confirmadas en la fe, y aumentaban en número cada día</a:t>
            </a:r>
            <a:r>
              <a:rPr b="1" lang="es-VE" sz="18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br>
              <a:rPr sz="1800"/>
            </a:br>
            <a:r>
              <a:rPr b="1" lang="es-VE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Hechos 16: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OBJETIVOS ESPECIFICO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apacitar al 100% de la feligresía activ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apacitar al 100% de los nuevos herman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nvolucrar al 100% de los feligreses activos en los Grupos Pequeños o Célul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apacitar al 100% de los oficiales, líderes de Grupos Pequeños, maestros de Escuela Sabática de la igles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apacitar al 100% de los niños, jóvenes y adultos pertenecientes a los Grupos Pequeños en los diferentes ministeri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Registrar a todos los hermanos involucrados en la capacit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tregar un Certificado de Capacitación al 100% de los discípulos involucrad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Wingdings 2"/>
                <a:ea typeface="Wingdings 2"/>
              </a:rPr>
              <a:t></a:t>
            </a:r>
            <a:r>
              <a:rPr b="1" lang="es-ES" sz="4000" spc="-1" strike="noStrike">
                <a:solidFill>
                  <a:srgbClr val="c00000"/>
                </a:solidFill>
                <a:latin typeface="Century Schoolbook"/>
              </a:rPr>
              <a:t>¿CÓMO SE HARA LA CAPACITACIÓ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ultos: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ípulos Modern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Hermano Mayor, Instructor Bíblico, Instructor Laico, Predicador, Líder de Grupo Pequeño, Ministerios de la Muj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Jóvenes: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ípulos de Elí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(predicadores juveniles, instructores, líderes de Gaam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iños: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equeños Discípul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predicadores juveniles, instructores, líderes de GP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42720" y="19998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00000"/>
                </a:solidFill>
                <a:latin typeface="Wingdings 2"/>
                <a:ea typeface="Wingdings 2"/>
              </a:rPr>
              <a:t></a:t>
            </a:r>
            <a:r>
              <a:rPr b="1" lang="es-ES" sz="4800" spc="-1" strike="noStrike">
                <a:solidFill>
                  <a:srgbClr val="c00000"/>
                </a:solidFill>
                <a:latin typeface="Century Schoolbook"/>
              </a:rPr>
              <a:t>CÓMO SERÁ LA CAPACITACIÓN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4105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GENERAL Y ESPECÍFIC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575f6d"/>
                </a:solidFill>
                <a:latin typeface="Century Schoolbook"/>
              </a:rPr>
              <a:t>GENERAL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VE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575f6d"/>
                </a:solidFill>
                <a:latin typeface="Century Schoolbook"/>
              </a:rPr>
              <a:t>CLASE SABÁTICA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entury Schoolbook"/>
              </a:rPr>
              <a:t>Clase magistral dirigida a todos los discípulos, con 8 temas generales. Dos temas por mes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43040" y="157140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Wingdings 2"/>
                <a:ea typeface="Wingdings 2"/>
              </a:rPr>
              <a:t></a:t>
            </a:r>
            <a:r>
              <a:rPr b="1" lang="es-ES" sz="3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s-ES" sz="3600" spc="-1" strike="noStrike">
                <a:solidFill>
                  <a:srgbClr val="c00000"/>
                </a:solidFill>
                <a:latin typeface="Century Schoolbook"/>
              </a:rPr>
              <a:t>¿CUÁL SERÍA EL PROGRAMA SUGERENTE EN LA IGLESIA DÍA SÁBADO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28556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Escuela Sabátic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Servicio de Canto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10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Programa 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25 mi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Repaso Lección 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30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rograma de Capacitación Gral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45 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5f6d"/>
                </a:solidFill>
                <a:latin typeface="Century Schoolbook"/>
              </a:rPr>
              <a:t>TEMAS DE LAS CLASES SABATI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42760" y="142884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 MINISTERIO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NES ESPIRITUAL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ILOSOFÍA DEL MINISTERIO JUVEN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SIEMB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OCIENDO EL TERREN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EPARANDO EL TERRE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MUJER Y LA MIS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IÑOS EN LA M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5f6d"/>
                </a:solidFill>
                <a:latin typeface="Century Schoolbook"/>
              </a:rPr>
              <a:t>TEMAS DE LAS CLASES SABATI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¿QUÉ ES UN MINISTERIO? (libro del IIMC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ONES ESPIRITUALES (libro del Instituto de Ministerios Cristia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ILOSOFÍA DEL MINISTERIO JUVENIL (Material escrito y presentacion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 SIEMBRA. Hacia una siembra con Estrategia. Págs. 10-16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NOCIENDO EL TERRENO. Hacia una siembra con Estrategia. Págs. 27-3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REPARANDO EL TERRENO. Hacia una siembra con Estrategia. Págs. 38-6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 MUJER Y LA MISIÓN (Material escrito y presentacion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NIÑOS EN LA MISION: Eslabones de la Gracia (Escrito y presentacion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29286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00000"/>
                </a:solidFill>
                <a:latin typeface="Wingdings 2"/>
                <a:ea typeface="Wingdings 2"/>
              </a:rPr>
              <a:t></a:t>
            </a:r>
            <a:r>
              <a:rPr b="1" lang="es-ES" sz="4800" spc="-1" strike="noStrike">
                <a:solidFill>
                  <a:srgbClr val="c00000"/>
                </a:solidFill>
                <a:latin typeface="Century Schoolbook"/>
              </a:rPr>
              <a:t>¿QUIÉN ES UN DISCÍPULO?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Un discípulo es un(a) niño (a), joven o adultos, comprometido(a), que está aprendiendo, compartiendo y enrolado en un ministeri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UNA SEMANA POR MES EN CELULAS, GP, GAAM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Se hará en el este orden; Junio una semana de mayordomía,  julio una semana de Familia y en Agosto una semana de Salud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575f6d"/>
                </a:solidFill>
                <a:latin typeface="Century Schoolbook"/>
              </a:rPr>
              <a:t>CAPACITACIÓN ESPECÍFICA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E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Estrategias de aprendizaje tales como testimonios, dinámicas y ejemplificacion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pacitación Específ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recién bautizados. Será un curso bíblico post bautismal (Más que vencedores) en las clases post bautismales o dado por el hermano mayor o el líder de ministerio de conservación y en la capacitación especifica será de acuerdo al segmento por medio de una tarjeta. Los responsables de dar estas materias serán: el pastor, los ancianos e Instructores Laicos. Al dictar estas clases recuerden aplicar.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strategias de aprendizaje tales como testimonios, dinámicas y ejemplificacion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Wingdings 2"/>
                <a:ea typeface="Wingdings 2"/>
              </a:rPr>
              <a:t></a:t>
            </a:r>
            <a:r>
              <a:rPr b="1" lang="es-ES" sz="3600" spc="-1" strike="noStrike">
                <a:solidFill>
                  <a:srgbClr val="c00000"/>
                </a:solidFill>
                <a:latin typeface="Century Schoolbook"/>
              </a:rPr>
              <a:t>¿CUÁL ES EL PROGRAMA EN LOS GRUPOS PEQUEÑOS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Bienvenida.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  1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Himno y Oración. 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  5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Materia correspondiente.45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Momento de Oración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  5 mi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Despedida y anuncios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  4 min.</a:t>
            </a: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71640" y="254304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Wingdings 2"/>
                <a:ea typeface="Wingdings 2"/>
              </a:rPr>
              <a:t></a:t>
            </a:r>
            <a:r>
              <a:rPr b="1" lang="es-ES" sz="4000" spc="-1" strike="noStrike">
                <a:solidFill>
                  <a:srgbClr val="c00000"/>
                </a:solidFill>
                <a:latin typeface="Century Schoolbook"/>
              </a:rPr>
              <a:t>¿Y AL CONCLUIR LA CAPACITACIÓN?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VE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Schoolbook"/>
              </a:rPr>
              <a:t>Cada campo por las zonas y distritos se hará el  26 de Septiembre establecerá la ceremonia especial de entrega de certificados para todos los participaron de las diferentes capacitación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71400" y="2963520"/>
            <a:ext cx="74293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Wingdings 2"/>
                <a:ea typeface="Wingdings 2"/>
              </a:rPr>
              <a:t></a:t>
            </a:r>
            <a:r>
              <a:rPr b="1" lang="es-ES" sz="4000" spc="-1" strike="noStrike">
                <a:solidFill>
                  <a:srgbClr val="c00000"/>
                </a:solidFill>
                <a:latin typeface="Century Schoolbook"/>
              </a:rPr>
              <a:t>¿CON QUÉ MATERIALES CONTAMOS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VE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bro “Hacia una Siembra con Estrategia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bro de Consolid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bro “Visión J.A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bros del Instituto de Ministerio Cristian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5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i="1" lang="es-VE" sz="5400" spc="-1" strike="noStrike">
                <a:solidFill>
                  <a:srgbClr val="000000"/>
                </a:solidFill>
                <a:latin typeface="Century Schoolbook"/>
              </a:rPr>
              <a:t>Cada miembro, un Discípulo”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5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i="1" lang="es-VE" sz="5400" spc="-1" strike="noStrike">
                <a:solidFill>
                  <a:srgbClr val="000000"/>
                </a:solidFill>
                <a:latin typeface="Century Schoolbook"/>
              </a:rPr>
              <a:t>Cada discípulo, Con un Ministerio”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Wingdings 2"/>
                <a:ea typeface="Wingdings 2"/>
              </a:rPr>
              <a:t></a:t>
            </a:r>
            <a:r>
              <a:rPr b="1" lang="es-ES" sz="4400" spc="-1" strike="noStrike">
                <a:solidFill>
                  <a:srgbClr val="c00000"/>
                </a:solidFill>
                <a:latin typeface="Century Schoolbook"/>
              </a:rPr>
              <a:t>¿QUÉ ES LA CONSOLIDACIÓN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VE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eriodo de cuatro meses, iniciando el primer sábado del mes de Junio y culminando el último sábado del mes de Septiembre, durante este tiempo el </a:t>
            </a:r>
            <a:r>
              <a:rPr b="1" i="1" lang="es-ES" sz="2400" spc="-1" strike="noStrike">
                <a:solidFill>
                  <a:srgbClr val="000000"/>
                </a:solidFill>
                <a:latin typeface="Century Schoolbook"/>
              </a:rPr>
              <a:t>énfasi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s el entrenamiento y la capacitación de todos los integrantes de la iglesia, dando atención especial a los nuevos miembros, confirmándolos en la fe y enrolándolos en un ministerio, con el fin de continuar el proceso del discipulad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5f6d"/>
                </a:solidFill>
                <a:latin typeface="Century Schoolbook"/>
              </a:rPr>
              <a:t>¿QUÉ SE HA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celebran las semanas en los grupos pequeños, de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ayordomí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junio,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duca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julio,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ida familiar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agosto, y de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alud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septiembr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dedica tiempo para organizar las nuevas iglesias y grupos,  además se organizan los grupos pequeños con los nuevos convers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nombran e instruyen a los nuevos dirigent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inalmente se planifica el trabajo para el siguiente año eclesiástico.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 recomienda que esta etapa este bajo la coordinación de un Anciano de igles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999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Wingdings 2"/>
                <a:ea typeface="Wingdings 2"/>
              </a:rPr>
              <a:t></a:t>
            </a:r>
            <a:r>
              <a:rPr b="1" lang="es-ES" sz="3600" spc="-1" strike="noStrike">
                <a:solidFill>
                  <a:srgbClr val="c00000"/>
                </a:solidFill>
                <a:latin typeface="Century Schoolbook"/>
              </a:rPr>
              <a:t>¿CUÁL ES LA META?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Identificar ,</a:t>
            </a:r>
            <a:r>
              <a:rPr b="1" i="1" lang="es-ES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i="1" lang="es-E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onocer </a:t>
            </a:r>
            <a:r>
              <a:rPr b="1" i="1" lang="es-ES" sz="1800" spc="-1" strike="noStrike">
                <a:solidFill>
                  <a:srgbClr val="575f6d"/>
                </a:solidFill>
                <a:latin typeface="Century Schoolbook"/>
              </a:rPr>
              <a:t> e i</a:t>
            </a:r>
            <a:r>
              <a:rPr b="1" i="1" lang="es-E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niciar </a:t>
            </a:r>
            <a:r>
              <a:rPr b="1" i="1" lang="es-ES" sz="1800" spc="-1" strike="noStrike">
                <a:solidFill>
                  <a:srgbClr val="575f6d"/>
                </a:solidFill>
                <a:latin typeface="Century Schoolbook"/>
              </a:rPr>
              <a:t>su ministerio con </a:t>
            </a:r>
            <a:r>
              <a:rPr b="1" i="1" lang="es-E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un plan de acción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Century Schoolbook"/>
              </a:rPr>
              <a:t>Cada miembro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que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Century Schoolbook"/>
              </a:rPr>
              <a:t>su ministerio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es-ES" sz="4400" spc="-1" strike="noStrike">
                <a:solidFill>
                  <a:srgbClr val="000000"/>
                </a:solidFill>
                <a:latin typeface="Century Schoolbook"/>
              </a:rPr>
              <a:t>reciba orientación para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nocer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Century Schoolbook"/>
              </a:rPr>
              <a:t>su ministerio  y que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inicie</a:t>
            </a:r>
            <a:r>
              <a:rPr b="1" i="1" lang="es-E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Century Schoolbook"/>
              </a:rPr>
              <a:t>su ministerio con </a:t>
            </a:r>
            <a:r>
              <a:rPr b="0" i="1" lang="es-E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un plan de acción</a:t>
            </a:r>
            <a:r>
              <a:rPr b="0" lang="es-ES" sz="4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Wingdings 2"/>
                <a:ea typeface="Wingdings 2"/>
              </a:rPr>
              <a:t></a:t>
            </a:r>
            <a:r>
              <a:rPr b="1" lang="es-ES" sz="4000" spc="-1" strike="noStrike">
                <a:solidFill>
                  <a:srgbClr val="c00000"/>
                </a:solidFill>
                <a:latin typeface="Century Schoolbook"/>
              </a:rPr>
              <a:t>LOS DESAFÍOS EN LA CONSOLIDACIÓ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VE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5f6d"/>
                </a:solidFill>
                <a:latin typeface="Century Schoolbook"/>
              </a:rPr>
              <a:t>DESAFIOS GENERA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7510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11:03Z</dcterms:created>
  <dc:creator>Luis</dc:creator>
  <dc:description/>
  <dc:language>en-US</dc:language>
  <cp:lastModifiedBy>Luis</cp:lastModifiedBy>
  <dcterms:modified xsi:type="dcterms:W3CDTF">2009-06-13T02:37:54Z</dcterms:modified>
  <cp:revision>27</cp:revision>
  <dc:subject/>
  <dc:title>CÓMO TENER UNA FASE DE CONSOLIDACIÓN EXITOSA</dc:title>
</cp:coreProperties>
</file>